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7863-1245-4681-9CCF-934D660B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8E6D-DAFD-4441-8782-D077E99A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555B-A3E6-4674-9E4D-A53CEBE0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D7CF-C04C-4309-8FD1-3CB0C475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C2E5-2FAD-4EDE-96B4-B6AC22BF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C643-6480-4B8E-87EA-888EEFA6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085E-D2C2-48C3-8D87-2E5C240E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1BDF-26E3-47E7-BBB1-BF015118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6CEB-124C-40D4-ABD6-3CD02CD1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348C-98AF-4FAD-9205-A0E14038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723C-9C02-41CC-9B42-30C0F637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CC39-A119-4F1B-9AD2-EF7A7681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CEC2-AFF5-45AB-A00C-C8ABD6F76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333360"/>
            <a:ext cx="7488360" cy="61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the following teams, you are to find the vocab on the sheets in…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K AS A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ck and the Beanstal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ttle Red Riding Hood (easi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now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cc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lli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ati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ery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rris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333360"/>
            <a:ext cx="3743280" cy="627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ir and -er verb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1700280"/>
            <a:ext cx="770436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188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Find the infinitiv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e.g. vivir (to live) / comer (to eat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Remove the –er / i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( = viv / = com 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Add 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í 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( = viví = I spoke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(com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í = I ate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125360"/>
            <a:ext cx="2158920" cy="441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ar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ast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a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35280" y="1125360"/>
            <a:ext cx="2158920" cy="4412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r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t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i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16720" y="1125360"/>
            <a:ext cx="2158920" cy="4412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r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ist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ie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58920" y="692280"/>
            <a:ext cx="66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0000"/>
                </a:solidFill>
                <a:uFillTx/>
                <a:latin typeface="Comic Sans MS"/>
              </a:rPr>
              <a:t>Important irregula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852640"/>
            <a:ext cx="8280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ui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 w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.g. fui a Esp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ña = I went to Sp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ue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t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.g. fue divertido = It was f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58920" y="692280"/>
            <a:ext cx="66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0000"/>
                </a:solidFill>
                <a:uFillTx/>
                <a:latin typeface="Comic Sans MS"/>
              </a:rPr>
              <a:t>Important irregula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2852640"/>
            <a:ext cx="8280360" cy="32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ugu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 play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jugu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é al fútbol = I played foot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actiqu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 practised / d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practiqu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é la gimnasia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I did gy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42920" y="981000"/>
            <a:ext cx="7128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0000"/>
                </a:solidFill>
                <a:latin typeface="Comic Sans MS"/>
              </a:rPr>
              <a:t>Now you try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0000"/>
                </a:solidFill>
                <a:latin typeface="Comic Sans MS"/>
              </a:rPr>
              <a:t>put all of the following into the I form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042920" y="981000"/>
            <a:ext cx="7128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0000"/>
                </a:solidFill>
                <a:latin typeface="Comic Sans MS"/>
              </a:rPr>
              <a:t>Now you try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bailar = to dan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bailé (I danced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42920" y="981000"/>
            <a:ext cx="7128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0000"/>
                </a:solidFill>
                <a:latin typeface="Comic Sans MS"/>
              </a:rPr>
              <a:t>Now you try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decidir = to decid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decidí (I decided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42920" y="981000"/>
            <a:ext cx="7128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0000"/>
                </a:solidFill>
                <a:latin typeface="Comic Sans MS"/>
              </a:rPr>
              <a:t>Now you try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leer = to rea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í (I read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42920" y="981000"/>
            <a:ext cx="7128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0000"/>
                </a:solidFill>
                <a:latin typeface="Comic Sans MS"/>
              </a:rPr>
              <a:t>Now you try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reir = to laugh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re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í (I laughed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42920" y="981000"/>
            <a:ext cx="7128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0000"/>
                </a:solidFill>
                <a:latin typeface="Comic Sans MS"/>
              </a:rPr>
              <a:t>Now you try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beber = to drin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beb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í (I drank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836640"/>
            <a:ext cx="741672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abía una vez un rey y una r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a reina mur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 volvió a ca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a nueva reina era muy herm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a reina se enfadó muchís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 acercó a la cab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lamó a la pu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staba muy can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 espejo respond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tonces llegó un prínc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. El chico se llamaba Ju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. Vivían en una casita en el ca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42920" y="981000"/>
            <a:ext cx="7128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0000"/>
                </a:solidFill>
                <a:latin typeface="Comic Sans MS"/>
              </a:rPr>
              <a:t>Now you try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viajar = to trave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viaj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é (I travelled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42920" y="981000"/>
            <a:ext cx="763272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0000"/>
                </a:solidFill>
                <a:latin typeface="Comic Sans MS"/>
              </a:rPr>
              <a:t>Now you try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Me quejar = to complai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Me quej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é (I complained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549360"/>
            <a:ext cx="8893080" cy="56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Comic Sans MS"/>
              </a:rPr>
              <a:t>Debe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You are to create your own worksheet, on how to teach the preterite to Yea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use your own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think how you would like to simplify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what does it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how is it form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what are the irregula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Comic Sans MS"/>
              </a:rPr>
              <a:t>MINIMUM of 10 practice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836640"/>
            <a:ext cx="741672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 fue al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ando lle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ó al pueb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los hay mejores en todo el m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lv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ó a c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yó unos gritos terr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a viejecita tocó la planta con su varita má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 lobo salió a su encu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a correr hacia la casa de la abu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stoy enferma y no puedo moverme de la c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0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perucita, la abuela y el cazador se pusieron muy cont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280" y="1197000"/>
            <a:ext cx="7921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Highlight the verbs that end 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Highlight verbs that end – aba / -aban /  -ía / ían / e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ense is category 1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ense is category 2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71640" y="263700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pretér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4478400" cy="3673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00000" y="260280"/>
            <a:ext cx="755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Infinit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9280" y="49370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000000"/>
                </a:solidFill>
                <a:uFillTx/>
                <a:latin typeface="Comic Sans MS"/>
              </a:rPr>
              <a:t>to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infinitive and beyo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549360"/>
            <a:ext cx="7561080" cy="55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3 types of infinitive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se all go at the end of the w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1280" y="1557360"/>
            <a:ext cx="8532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at is the “preterite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 form of the past t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n English = “e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333360"/>
            <a:ext cx="2447640" cy="627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- ar verb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2133720"/>
            <a:ext cx="7200720" cy="30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188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Find the infinitiv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e.g. hablar (to talk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Remove the –ar ( = habl 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Add 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é ( = hablé = I talk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Comic Sans MS"/>
              </a:rPr>
              <a:t>ed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0:22:20Z</dcterms:created>
  <dc:creator>Owner1</dc:creator>
  <dc:description/>
  <dc:language>en-US</dc:language>
  <cp:lastModifiedBy>Owner1</cp:lastModifiedBy>
  <dcterms:modified xsi:type="dcterms:W3CDTF">2008-11-13T11:21:58Z</dcterms:modified>
  <cp:revision>2</cp:revision>
  <dc:subject/>
  <dc:title>Slide 1</dc:title>
</cp:coreProperties>
</file>